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8B2-79CA-4369-AC9A-7BB3EC96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F38-AF26-4D46-8BB9-FDD5B72B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B62-B6F9-4761-B1A5-EEB39B50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473-EF85-4D20-B2AC-A0C1E6E9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9A5-7D3D-47AC-B454-7B5FE419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E41-66C5-46E4-8CD4-7DE43699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E50-B1C8-40A1-9F72-2F223CC2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7B7-8C5B-49D6-A020-0C65CECA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747-C40C-4E91-A2D1-58318DF7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027-5E29-4368-B47C-F6F7DE95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31A-B7BF-402C-B0AE-D44C8D08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AD4-B95E-4A90-943E-7E948F8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7F05-288B-4F48-A9B2-0FDB6E27A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Ex%20East%20AM.wmv" TargetMode="External"/><Relationship Id="rId3" Type="http://schemas.openxmlformats.org/officeDocument/2006/relationships/hyperlink" Target="file:///Ln%20Red%20East%20AM.wmv" TargetMode="External"/><Relationship Id="rId4" Type="http://schemas.openxmlformats.org/officeDocument/2006/relationships/hyperlink" Target="file:///Ex%20West%20PM.wmv" TargetMode="External"/><Relationship Id="rId5" Type="http://schemas.openxmlformats.org/officeDocument/2006/relationships/hyperlink" Target="file:///Ln%20Red%20West%20PM.wmv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2960" y="12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HEVY CHASE DRIVE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LANE REDUCTION STUD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044520"/>
            <a:ext cx="82296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 Outreach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ch 22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:30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685800" y="60948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lision Involved: Bi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4646520" y="711360"/>
            <a:ext cx="373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m 1/1/2011 to 12/31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tal Collision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961920" y="2023920"/>
            <a:ext cx="7027920" cy="4546800"/>
            <a:chOff x="961920" y="2023920"/>
            <a:chExt cx="7027920" cy="4546800"/>
          </a:xfrm>
        </p:grpSpPr>
        <p:pic>
          <p:nvPicPr>
            <p:cNvPr id="111" name="Picture 3" descr="Google Maps - Google Chrome"/>
            <p:cNvPicPr/>
            <p:nvPr/>
          </p:nvPicPr>
          <p:blipFill>
            <a:blip r:embed="rId2"/>
            <a:srcRect l="8036" t="12982" r="17291" b="4972"/>
            <a:stretch/>
          </p:blipFill>
          <p:spPr>
            <a:xfrm>
              <a:off x="961920" y="2023920"/>
              <a:ext cx="7027920" cy="454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Group 4"/>
            <p:cNvGrpSpPr/>
            <p:nvPr/>
          </p:nvGrpSpPr>
          <p:grpSpPr>
            <a:xfrm>
              <a:off x="1820880" y="4289400"/>
              <a:ext cx="4627440" cy="804960"/>
              <a:chOff x="1820880" y="4289400"/>
              <a:chExt cx="4627440" cy="804960"/>
            </a:xfrm>
          </p:grpSpPr>
          <p:sp>
            <p:nvSpPr>
              <p:cNvPr id="113" name="Oval 20"/>
              <p:cNvSpPr/>
              <p:nvPr/>
            </p:nvSpPr>
            <p:spPr>
              <a:xfrm>
                <a:off x="1820880" y="5031000"/>
                <a:ext cx="47520" cy="63360"/>
              </a:xfrm>
              <a:prstGeom prst="ellipse">
                <a:avLst/>
              </a:prstGeom>
              <a:solidFill>
                <a:srgbClr val="007e39"/>
              </a:solidFill>
              <a:ln w="25560">
                <a:solidFill>
                  <a:srgbClr val="007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21"/>
              <p:cNvSpPr/>
              <p:nvPr/>
            </p:nvSpPr>
            <p:spPr>
              <a:xfrm>
                <a:off x="4599000" y="4999320"/>
                <a:ext cx="47520" cy="63360"/>
              </a:xfrm>
              <a:prstGeom prst="ellipse">
                <a:avLst/>
              </a:prstGeom>
              <a:solidFill>
                <a:srgbClr val="007e39"/>
              </a:solidFill>
              <a:ln w="25560">
                <a:solidFill>
                  <a:srgbClr val="007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22"/>
              <p:cNvSpPr/>
              <p:nvPr/>
            </p:nvSpPr>
            <p:spPr>
              <a:xfrm>
                <a:off x="5548320" y="4919760"/>
                <a:ext cx="45720" cy="64800"/>
              </a:xfrm>
              <a:prstGeom prst="ellipse">
                <a:avLst/>
              </a:prstGeom>
              <a:solidFill>
                <a:srgbClr val="007e39"/>
              </a:solidFill>
              <a:ln w="25560">
                <a:solidFill>
                  <a:srgbClr val="007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23"/>
              <p:cNvSpPr/>
              <p:nvPr/>
            </p:nvSpPr>
            <p:spPr>
              <a:xfrm>
                <a:off x="6400800" y="4289400"/>
                <a:ext cx="47520" cy="63360"/>
              </a:xfrm>
              <a:prstGeom prst="ellipse">
                <a:avLst/>
              </a:prstGeom>
              <a:solidFill>
                <a:srgbClr val="007e39"/>
              </a:solidFill>
              <a:ln w="25560">
                <a:solidFill>
                  <a:srgbClr val="007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Box 24"/>
          <p:cNvSpPr/>
          <p:nvPr/>
        </p:nvSpPr>
        <p:spPr>
          <a:xfrm>
            <a:off x="2595600" y="5116680"/>
            <a:ext cx="1528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Chevy Chase Dr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 rot="16200000">
            <a:off x="1101600" y="4225320"/>
            <a:ext cx="108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ynton Str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6"/>
          <p:cNvSpPr/>
          <p:nvPr/>
        </p:nvSpPr>
        <p:spPr>
          <a:xfrm rot="16200000">
            <a:off x="5708880" y="3291840"/>
            <a:ext cx="14713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Chevy Chase Dr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7"/>
          <p:cNvSpPr/>
          <p:nvPr/>
        </p:nvSpPr>
        <p:spPr>
          <a:xfrm rot="16200000">
            <a:off x="4826160" y="3314880"/>
            <a:ext cx="1064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Adams Str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760" y="88596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PEED SURVE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640" y="2552400"/>
            <a:ext cx="82296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vy Chase Drive between Boynton Street and Adams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ed Limit = 35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erage Speed = 29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rcentile Speed = 37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0200" y="781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TERSECTION LEVEL OF SERV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4720" y="2228760"/>
          <a:ext cx="8248680" cy="4241880"/>
        </p:xfrm>
        <a:graphic>
          <a:graphicData uri="http://schemas.openxmlformats.org/drawingml/2006/table">
            <a:tbl>
              <a:tblPr/>
              <a:tblGrid>
                <a:gridCol w="2398680"/>
                <a:gridCol w="884520"/>
                <a:gridCol w="1825560"/>
                <a:gridCol w="498240"/>
                <a:gridCol w="1908360"/>
                <a:gridCol w="733320"/>
              </a:tblGrid>
              <a:tr h="986040"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Peak Hour Intersection Level of Ser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Delay w/o Lane reduction (sec/ve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Delay w. Lane reduction (sec/ve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Glen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Marip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Boyn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La B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Ad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Tyler/Aca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31200">
                <a:tc gridSpan="6">
                  <a:txBody>
                    <a:bodyPr lIns="0" rIns="0" tIns="0" bIns="0" anchor="t">
                      <a:noAutofit/>
                    </a:bodyPr>
                    <a:p>
                      <a:pPr marL="419040" indent="-345960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345960" algn="just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signalized intersections, average intersection delay is reported in seconds per vehicle for all approaches. For side-street stop-controlled intersections, the delay and LOS for the most delayed individual movement is shown.  All results are rounded to the nearest sec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345960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:  Fehr &amp; Peers,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0840" y="8161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TERSECTION LEVEL OF SERV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5360" y="2235240"/>
          <a:ext cx="8248680" cy="4232160"/>
        </p:xfrm>
        <a:graphic>
          <a:graphicData uri="http://schemas.openxmlformats.org/drawingml/2006/table">
            <a:tbl>
              <a:tblPr/>
              <a:tblGrid>
                <a:gridCol w="2398680"/>
                <a:gridCol w="884160"/>
                <a:gridCol w="1825560"/>
                <a:gridCol w="498600"/>
                <a:gridCol w="1908000"/>
                <a:gridCol w="733680"/>
              </a:tblGrid>
              <a:tr h="985680"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Peak Hour Intersection Level of Ser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Delay w/o Lane reduction (sec/ve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Delay w. Lane reduction (sec/ve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Glen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Marip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Boyn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La B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40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Ad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73080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/Tyler/Aca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31200">
                <a:tc gridSpan="6">
                  <a:txBody>
                    <a:bodyPr lIns="0" rIns="0" tIns="0" bIns="0" anchor="t">
                      <a:noAutofit/>
                    </a:bodyPr>
                    <a:p>
                      <a:pPr marL="419040" indent="-345960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345960" algn="just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signalized intersections, average intersection delay is reported in seconds per vehicle for all approaches. For side-street stop-controlled intersections, the delay and LOS for the most delayed individual movement is shown.  All results are rounded to the nearest sec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345960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:  Fehr &amp; Peers,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RAVEL TIME STUD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57360" y="2347920"/>
          <a:ext cx="8001000" cy="2413080"/>
        </p:xfrm>
        <a:graphic>
          <a:graphicData uri="http://schemas.openxmlformats.org/drawingml/2006/table">
            <a:tbl>
              <a:tblPr/>
              <a:tblGrid>
                <a:gridCol w="1058760"/>
                <a:gridCol w="784080"/>
                <a:gridCol w="925560"/>
                <a:gridCol w="1068480"/>
                <a:gridCol w="1068480"/>
                <a:gridCol w="998280"/>
                <a:gridCol w="1047960"/>
                <a:gridCol w="1049400"/>
              </a:tblGrid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Hour Travel Time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H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bound (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bound (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Lan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 Time %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Lan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 Time %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76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y C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372960" y="816120"/>
            <a:ext cx="82296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MPUTER MODEL SIMULATION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(SIMTRAFFIC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2482920"/>
            <a:ext cx="82296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 Segment Existing AM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x East AM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 Segment with Lane Reduction AM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n Red East AM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st Segment Existing PM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x West PM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st Segment with Lane Reduction PM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Ln Red West PM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9596" t="4801" r="28079" b="18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Freeform 2"/>
          <p:cNvSpPr/>
          <p:nvPr/>
        </p:nvSpPr>
        <p:spPr>
          <a:xfrm>
            <a:off x="419040" y="2600280"/>
            <a:ext cx="8039160" cy="723960"/>
          </a:xfrm>
          <a:custGeom>
            <a:avLst/>
            <a:gdLst/>
            <a:ahLst/>
            <a:rect l="l" t="t" r="r" b="b"/>
            <a:pathLst>
              <a:path w="8039100" h="723900">
                <a:moveTo>
                  <a:pt x="9525" y="285750"/>
                </a:moveTo>
                <a:lnTo>
                  <a:pt x="0" y="723900"/>
                </a:lnTo>
                <a:lnTo>
                  <a:pt x="1362075" y="695325"/>
                </a:lnTo>
                <a:lnTo>
                  <a:pt x="2266950" y="590550"/>
                </a:lnTo>
                <a:lnTo>
                  <a:pt x="3429000" y="600075"/>
                </a:lnTo>
                <a:lnTo>
                  <a:pt x="3962400" y="466725"/>
                </a:lnTo>
                <a:lnTo>
                  <a:pt x="8039100" y="476250"/>
                </a:lnTo>
                <a:lnTo>
                  <a:pt x="8020050" y="66675"/>
                </a:lnTo>
                <a:lnTo>
                  <a:pt x="3762375" y="0"/>
                </a:lnTo>
                <a:lnTo>
                  <a:pt x="3276600" y="123825"/>
                </a:lnTo>
                <a:lnTo>
                  <a:pt x="2190750" y="123825"/>
                </a:lnTo>
                <a:lnTo>
                  <a:pt x="962025" y="266700"/>
                </a:lnTo>
                <a:lnTo>
                  <a:pt x="9525" y="28575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3767040" y="1662120"/>
            <a:ext cx="1608120" cy="40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3767040" y="3719520"/>
            <a:ext cx="16081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URPOSE OF STUD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Evaluate the Feasibility of Reducing Chevy Chase Drive from 4 Travel Lanes to 2 Travel Lanes with a Continuous Two-Way Left-Turn Lane and 2 Bicycle L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0960" y="302760"/>
            <a:ext cx="81820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VY CHASE DRIVE REDESIGN LAN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641" t="9344" r="1254" b="9877"/>
          <a:stretch/>
        </p:blipFill>
        <p:spPr>
          <a:xfrm>
            <a:off x="480960" y="809640"/>
            <a:ext cx="8182080" cy="5238720"/>
          </a:xfrm>
          <a:prstGeom prst="rect">
            <a:avLst/>
          </a:prstGeom>
          <a:ln w="0">
            <a:noFill/>
          </a:ln>
        </p:spPr>
      </p:pic>
      <p:sp>
        <p:nvSpPr>
          <p:cNvPr id="55" name="Title 1"/>
          <p:cNvSpPr/>
          <p:nvPr/>
        </p:nvSpPr>
        <p:spPr>
          <a:xfrm>
            <a:off x="480960" y="6048360"/>
            <a:ext cx="818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ane Reduction Test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2960" y="39996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COPE OF STUD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duct Vehicle, Pedestrian and Bicycle Volume Cou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view Collision Records Involved Unsafe Speed, Pedestrians and Bicycl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duct Speed Surv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lculate Intersection Level of Service and Average De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duct Travel Time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uter Model Simulation (SimTraff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VEHICLE VOLU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 Count AM &amp; PM Peak H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bruary 5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136440" y="1566720"/>
            <a:ext cx="88711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3"/>
          <a:stretch/>
        </p:blipFill>
        <p:spPr>
          <a:xfrm>
            <a:off x="7351560" y="5437080"/>
            <a:ext cx="15796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8481960" y="1649520"/>
            <a:ext cx="3272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BICYCLE VOLU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cycle Count AM &amp; PM Peak H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bruary 5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100080" y="1671480"/>
            <a:ext cx="8943840" cy="3565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7542360" y="5418000"/>
            <a:ext cx="138744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>
            <a:off x="8510760" y="1738440"/>
            <a:ext cx="3268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0840" y="711360"/>
            <a:ext cx="342900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lision Involved: Unsaf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4240080" y="819000"/>
            <a:ext cx="478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m 1/1/2011 to 12/31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tal Collisions: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9"/>
          <p:cNvGrpSpPr/>
          <p:nvPr/>
        </p:nvGrpSpPr>
        <p:grpSpPr>
          <a:xfrm>
            <a:off x="533520" y="2170080"/>
            <a:ext cx="8076960" cy="4326120"/>
            <a:chOff x="533520" y="2170080"/>
            <a:chExt cx="8076960" cy="4326120"/>
          </a:xfrm>
        </p:grpSpPr>
        <p:pic>
          <p:nvPicPr>
            <p:cNvPr id="75" name="Picture 6" descr="Google Maps - Google Chrome"/>
            <p:cNvPicPr/>
            <p:nvPr/>
          </p:nvPicPr>
          <p:blipFill>
            <a:blip r:embed="rId2"/>
            <a:srcRect l="16916" t="13640" r="13334" b="5634"/>
            <a:stretch/>
          </p:blipFill>
          <p:spPr>
            <a:xfrm>
              <a:off x="533520" y="2170080"/>
              <a:ext cx="8076960" cy="432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5"/>
            <p:cNvGrpSpPr/>
            <p:nvPr/>
          </p:nvGrpSpPr>
          <p:grpSpPr>
            <a:xfrm>
              <a:off x="898560" y="4202280"/>
              <a:ext cx="7037280" cy="782640"/>
              <a:chOff x="898560" y="4202280"/>
              <a:chExt cx="7037280" cy="782640"/>
            </a:xfrm>
          </p:grpSpPr>
          <p:sp>
            <p:nvSpPr>
              <p:cNvPr id="77" name="TextBox 40"/>
              <p:cNvSpPr/>
              <p:nvPr/>
            </p:nvSpPr>
            <p:spPr>
              <a:xfrm>
                <a:off x="5316480" y="4660920"/>
                <a:ext cx="14889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 Chevy Chase Driv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41"/>
              <p:cNvSpPr/>
              <p:nvPr/>
            </p:nvSpPr>
            <p:spPr>
              <a:xfrm>
                <a:off x="995400" y="480888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42"/>
              <p:cNvSpPr/>
              <p:nvPr/>
            </p:nvSpPr>
            <p:spPr>
              <a:xfrm>
                <a:off x="1028520" y="491832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43"/>
              <p:cNvSpPr/>
              <p:nvPr/>
            </p:nvSpPr>
            <p:spPr>
              <a:xfrm>
                <a:off x="898560" y="487404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44"/>
              <p:cNvSpPr/>
              <p:nvPr/>
            </p:nvSpPr>
            <p:spPr>
              <a:xfrm>
                <a:off x="1157040" y="484704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45"/>
              <p:cNvSpPr/>
              <p:nvPr/>
            </p:nvSpPr>
            <p:spPr>
              <a:xfrm>
                <a:off x="1431720" y="486432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46"/>
              <p:cNvSpPr/>
              <p:nvPr/>
            </p:nvSpPr>
            <p:spPr>
              <a:xfrm>
                <a:off x="2225520" y="481356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47"/>
              <p:cNvSpPr/>
              <p:nvPr/>
            </p:nvSpPr>
            <p:spPr>
              <a:xfrm>
                <a:off x="2825640" y="479304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48"/>
              <p:cNvSpPr/>
              <p:nvPr/>
            </p:nvSpPr>
            <p:spPr>
              <a:xfrm>
                <a:off x="2979720" y="479304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9"/>
              <p:cNvSpPr/>
              <p:nvPr/>
            </p:nvSpPr>
            <p:spPr>
              <a:xfrm>
                <a:off x="3127320" y="4793040"/>
                <a:ext cx="8712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50"/>
              <p:cNvSpPr/>
              <p:nvPr/>
            </p:nvSpPr>
            <p:spPr>
              <a:xfrm>
                <a:off x="3413160" y="478008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51"/>
              <p:cNvSpPr/>
              <p:nvPr/>
            </p:nvSpPr>
            <p:spPr>
              <a:xfrm>
                <a:off x="7850160" y="4202280"/>
                <a:ext cx="85680" cy="666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38"/>
            <p:cNvSpPr/>
            <p:nvPr/>
          </p:nvSpPr>
          <p:spPr>
            <a:xfrm rot="16200000">
              <a:off x="2125800" y="3938400"/>
              <a:ext cx="1138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ynton Stre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9"/>
            <p:cNvSpPr/>
            <p:nvPr/>
          </p:nvSpPr>
          <p:spPr>
            <a:xfrm rot="16451400">
              <a:off x="502200" y="3688920"/>
              <a:ext cx="1336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 Glendale Aven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52"/>
          <p:cNvSpPr/>
          <p:nvPr/>
        </p:nvSpPr>
        <p:spPr>
          <a:xfrm rot="16200000">
            <a:off x="7136640" y="2859840"/>
            <a:ext cx="150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Chevy Chase Dr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3"/>
          <p:cNvSpPr/>
          <p:nvPr/>
        </p:nvSpPr>
        <p:spPr>
          <a:xfrm rot="16200000">
            <a:off x="6269400" y="2865600"/>
            <a:ext cx="1064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Adams Str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457200" y="903240"/>
            <a:ext cx="33526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lision Involved: Pedest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4911840" y="952560"/>
            <a:ext cx="354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m 1/1/2011 to 12/31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tal Collision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149560" cy="635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ONNECTExplorer™ - Google Chrome"/>
          <p:cNvPicPr/>
          <p:nvPr/>
        </p:nvPicPr>
        <p:blipFill>
          <a:blip r:embed="rId2"/>
          <a:srcRect l="12616" t="16444" r="8505" b="7782"/>
          <a:stretch/>
        </p:blipFill>
        <p:spPr>
          <a:xfrm>
            <a:off x="990720" y="2305080"/>
            <a:ext cx="72118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"/>
          <p:cNvGrpSpPr/>
          <p:nvPr/>
        </p:nvGrpSpPr>
        <p:grpSpPr>
          <a:xfrm>
            <a:off x="4219560" y="2193840"/>
            <a:ext cx="4241880" cy="2244960"/>
            <a:chOff x="4219560" y="2193840"/>
            <a:chExt cx="4241880" cy="2244960"/>
          </a:xfrm>
        </p:grpSpPr>
        <p:sp>
          <p:nvSpPr>
            <p:cNvPr id="98" name="TextBox 9"/>
            <p:cNvSpPr/>
            <p:nvPr/>
          </p:nvSpPr>
          <p:spPr>
            <a:xfrm rot="16625400">
              <a:off x="3925080" y="2729520"/>
              <a:ext cx="15393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endale Aven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4219560" y="3939120"/>
              <a:ext cx="4241880" cy="499680"/>
              <a:chOff x="4219560" y="3939120"/>
              <a:chExt cx="4241880" cy="499680"/>
            </a:xfrm>
          </p:grpSpPr>
          <p:sp>
            <p:nvSpPr>
              <p:cNvPr id="100" name="TextBox 10"/>
              <p:cNvSpPr/>
              <p:nvPr/>
            </p:nvSpPr>
            <p:spPr>
              <a:xfrm>
                <a:off x="6558840" y="3939120"/>
                <a:ext cx="19026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 Chevy Chase Dr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4"/>
              <p:cNvSpPr/>
              <p:nvPr/>
            </p:nvSpPr>
            <p:spPr>
              <a:xfrm>
                <a:off x="4219560" y="428508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25"/>
              <p:cNvSpPr/>
              <p:nvPr/>
            </p:nvSpPr>
            <p:spPr>
              <a:xfrm>
                <a:off x="4319280" y="417060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6"/>
              <p:cNvSpPr/>
              <p:nvPr/>
            </p:nvSpPr>
            <p:spPr>
              <a:xfrm>
                <a:off x="4527360" y="417060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7"/>
              <p:cNvSpPr/>
              <p:nvPr/>
            </p:nvSpPr>
            <p:spPr>
              <a:xfrm>
                <a:off x="4319280" y="436284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28"/>
              <p:cNvSpPr/>
              <p:nvPr/>
            </p:nvSpPr>
            <p:spPr>
              <a:xfrm>
                <a:off x="4478040" y="4297680"/>
                <a:ext cx="99720" cy="75960"/>
              </a:xfrm>
              <a:prstGeom prst="ellipse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TextBox 21"/>
          <p:cNvSpPr/>
          <p:nvPr/>
        </p:nvSpPr>
        <p:spPr>
          <a:xfrm rot="16200000">
            <a:off x="1041120" y="385596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nd Boulev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6:33:04Z</dcterms:created>
  <dc:creator>tchow</dc:creator>
  <dc:description/>
  <dc:language>en-US</dc:language>
  <cp:lastModifiedBy>Martin, Eduardo</cp:lastModifiedBy>
  <dcterms:modified xsi:type="dcterms:W3CDTF">2017-03-22T22:40:25Z</dcterms:modified>
  <cp:revision>40</cp:revision>
  <dc:subject/>
  <dc:title>Slide 1</dc:title>
</cp:coreProperties>
</file>